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444-D2AE-47FA-ADCF-7B0843F7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0E0-2CC4-4B38-AAD2-11C7E6F5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089-5F4B-4223-A958-47DD3DE1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FAE-9569-47DC-BF1F-89FF1385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124-244B-459A-B6FE-B3D8799E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E7B-B580-4446-8E7B-80E8CC7B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F1A-FEE2-48A7-B0DB-907B1532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179-83F5-46DE-BFBF-5A848F50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307-C951-4066-96DE-2588271D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5A6-834E-452E-9A3A-BBB129C0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1C6-4298-4FEB-B43A-6E74A77E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E56-A7B2-4C76-902E-496577DD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7F565F-E683-468D-B830-2924B225366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61080" y="194400"/>
            <a:ext cx="7383240" cy="7387920"/>
            <a:chOff x="1261080" y="194400"/>
            <a:chExt cx="7383240" cy="7387920"/>
          </a:xfrm>
        </p:grpSpPr>
        <p:sp>
          <p:nvSpPr>
            <p:cNvPr id="42" name="_s2078"/>
            <p:cNvSpPr/>
            <p:nvPr/>
          </p:nvSpPr>
          <p:spPr>
            <a:xfrm flipH="1">
              <a:off x="3106440" y="3888360"/>
              <a:ext cx="92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77"/>
            <p:cNvSpPr/>
            <p:nvPr/>
          </p:nvSpPr>
          <p:spPr>
            <a:xfrm>
              <a:off x="1261080" y="2964960"/>
              <a:ext cx="1845720" cy="18468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nufactu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76"/>
            <p:cNvSpPr/>
            <p:nvPr/>
          </p:nvSpPr>
          <p:spPr>
            <a:xfrm>
              <a:off x="4952520" y="4811760"/>
              <a:ext cx="0" cy="92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75"/>
            <p:cNvSpPr/>
            <p:nvPr/>
          </p:nvSpPr>
          <p:spPr>
            <a:xfrm>
              <a:off x="4029840" y="5735160"/>
              <a:ext cx="1845720" cy="18471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gricul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74"/>
            <p:cNvSpPr/>
            <p:nvPr/>
          </p:nvSpPr>
          <p:spPr>
            <a:xfrm>
              <a:off x="5875560" y="3888360"/>
              <a:ext cx="92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73"/>
            <p:cNvSpPr/>
            <p:nvPr/>
          </p:nvSpPr>
          <p:spPr>
            <a:xfrm>
              <a:off x="6798240" y="2964960"/>
              <a:ext cx="1846080" cy="18468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72"/>
            <p:cNvSpPr/>
            <p:nvPr/>
          </p:nvSpPr>
          <p:spPr>
            <a:xfrm flipV="1">
              <a:off x="4952520" y="2041200"/>
              <a:ext cx="0" cy="92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71"/>
            <p:cNvSpPr/>
            <p:nvPr/>
          </p:nvSpPr>
          <p:spPr>
            <a:xfrm>
              <a:off x="4029840" y="194400"/>
              <a:ext cx="1845720" cy="18468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8"/>
            <p:cNvSpPr/>
            <p:nvPr/>
          </p:nvSpPr>
          <p:spPr>
            <a:xfrm>
              <a:off x="4029840" y="2964960"/>
              <a:ext cx="1845720" cy="18468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cono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337400" y="194400"/>
            <a:ext cx="7383240" cy="7385040"/>
            <a:chOff x="1337400" y="194400"/>
            <a:chExt cx="7383240" cy="7385040"/>
          </a:xfrm>
        </p:grpSpPr>
        <p:sp>
          <p:nvSpPr>
            <p:cNvPr id="52" name="_s3132"/>
            <p:cNvSpPr/>
            <p:nvPr/>
          </p:nvSpPr>
          <p:spPr>
            <a:xfrm flipH="1" flipV="1">
              <a:off x="3724920" y="2581560"/>
              <a:ext cx="652680" cy="6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131"/>
            <p:cNvSpPr/>
            <p:nvPr/>
          </p:nvSpPr>
          <p:spPr>
            <a:xfrm>
              <a:off x="2146320" y="1004760"/>
              <a:ext cx="1846080" cy="18468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Amaz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in For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076"/>
            <p:cNvSpPr/>
            <p:nvPr/>
          </p:nvSpPr>
          <p:spPr>
            <a:xfrm flipH="1">
              <a:off x="3185280" y="3885840"/>
              <a:ext cx="92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77"/>
            <p:cNvSpPr/>
            <p:nvPr/>
          </p:nvSpPr>
          <p:spPr>
            <a:xfrm>
              <a:off x="1337400" y="2964960"/>
              <a:ext cx="1845720" cy="184680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ederal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078"/>
            <p:cNvSpPr/>
            <p:nvPr/>
          </p:nvSpPr>
          <p:spPr>
            <a:xfrm flipH="1">
              <a:off x="3724920" y="4536720"/>
              <a:ext cx="652680" cy="6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079"/>
            <p:cNvSpPr/>
            <p:nvPr/>
          </p:nvSpPr>
          <p:spPr>
            <a:xfrm>
              <a:off x="2149560" y="4922640"/>
              <a:ext cx="1845720" cy="184680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Amaz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80"/>
            <p:cNvSpPr/>
            <p:nvPr/>
          </p:nvSpPr>
          <p:spPr>
            <a:xfrm>
              <a:off x="5028840" y="4806720"/>
              <a:ext cx="0" cy="92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081"/>
            <p:cNvSpPr/>
            <p:nvPr/>
          </p:nvSpPr>
          <p:spPr>
            <a:xfrm>
              <a:off x="4108320" y="5732640"/>
              <a:ext cx="1846080" cy="18468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u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e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082"/>
            <p:cNvSpPr/>
            <p:nvPr/>
          </p:nvSpPr>
          <p:spPr>
            <a:xfrm>
              <a:off x="5679360" y="4536720"/>
              <a:ext cx="652680" cy="6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083"/>
            <p:cNvSpPr/>
            <p:nvPr/>
          </p:nvSpPr>
          <p:spPr>
            <a:xfrm>
              <a:off x="6064920" y="4920120"/>
              <a:ext cx="1846080" cy="18468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is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den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084"/>
            <p:cNvSpPr/>
            <p:nvPr/>
          </p:nvSpPr>
          <p:spPr>
            <a:xfrm>
              <a:off x="5949360" y="3885840"/>
              <a:ext cx="92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085"/>
            <p:cNvSpPr/>
            <p:nvPr/>
          </p:nvSpPr>
          <p:spPr>
            <a:xfrm>
              <a:off x="6874560" y="2962440"/>
              <a:ext cx="1846080" cy="18468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razil - Brasil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086"/>
            <p:cNvSpPr/>
            <p:nvPr/>
          </p:nvSpPr>
          <p:spPr>
            <a:xfrm flipV="1">
              <a:off x="5679360" y="2581560"/>
              <a:ext cx="652680" cy="6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087"/>
            <p:cNvSpPr/>
            <p:nvPr/>
          </p:nvSpPr>
          <p:spPr>
            <a:xfrm>
              <a:off x="6062400" y="1004760"/>
              <a:ext cx="1845720" cy="18468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pulation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98,739,26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088"/>
            <p:cNvSpPr/>
            <p:nvPr/>
          </p:nvSpPr>
          <p:spPr>
            <a:xfrm flipV="1">
              <a:off x="5028840" y="2041200"/>
              <a:ext cx="0" cy="92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089"/>
            <p:cNvSpPr/>
            <p:nvPr/>
          </p:nvSpPr>
          <p:spPr>
            <a:xfrm>
              <a:off x="4106160" y="194400"/>
              <a:ext cx="1845720" cy="18468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lag – Gre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th yello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am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b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090"/>
            <p:cNvSpPr/>
            <p:nvPr/>
          </p:nvSpPr>
          <p:spPr>
            <a:xfrm>
              <a:off x="4106160" y="2964960"/>
              <a:ext cx="1845720" cy="18468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raz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5:13:18Z</dcterms:created>
  <dc:creator>teacher</dc:creator>
  <dc:description/>
  <dc:language>en-US</dc:language>
  <cp:lastModifiedBy>teacher</cp:lastModifiedBy>
  <dcterms:modified xsi:type="dcterms:W3CDTF">2010-05-07T14:38:41Z</dcterms:modified>
  <cp:revision>4</cp:revision>
  <dc:subject/>
  <dc:title>Slide 1</dc:title>
</cp:coreProperties>
</file>